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4F9-6E80-48E6-8818-D7627F06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278-C977-4F1B-B8F3-F40F2AA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2F9-B6DB-4313-8A11-2D6FC713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4CC-8F02-4C93-9B30-7AE20725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BC8D-740D-4338-B682-AEE86E18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492A-8C24-467F-B086-E3481F5A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DCBE-B611-4443-8A96-26215CF9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64E8-90F9-4823-B0CF-1AB52691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75EB-714B-4FF4-8E78-DD4E5E56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6706-E57A-4A64-8E47-939E2004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6399-11D2-4EF8-96A0-54A5EEB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1C0-2EA8-4679-95BF-3059B318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D6CA-3736-46CA-9E12-473C127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6C35-4E61-444C-A1E3-46471876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A043-C33E-4828-AF52-16994B27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3AC0-6EF2-4A47-82FB-755752CA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40D8-03BD-4B80-ABCE-9B73CC2E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779-D655-49D5-8896-79B9D0BE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D7D-22AF-4971-B28C-D391AA70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3FE-E893-493E-B09B-4D710A69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FD1-FE78-490D-BF6A-A91BDCC0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4E1-538A-475C-8D9E-990BD38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0D4-CB85-43D4-851D-9469B7E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383-AC11-4451-B07C-371ECFC2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42B2-D0E1-47C9-B036-785B554B0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E98A-02E5-457F-945C-012C4BFDD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Amanda Hath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A period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am I going the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usin live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brother and cousins on fun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e the cites and te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30477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am I going to get the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fly to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am I going to sta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o stay in or around Tok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with and visit my 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-ichi Hotel Tok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am I doing the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an amusement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all the differen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ial Palace 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bukiza Th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3809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 Ticket:$968 per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el:$ 191 per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pp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ion co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9:47:44Z</dcterms:created>
  <dc:creator>kfisch</dc:creator>
  <dc:description/>
  <cp:keywords/>
  <dc:language>en-US</dc:language>
  <cp:lastModifiedBy>kfisch</cp:lastModifiedBy>
  <dcterms:modified xsi:type="dcterms:W3CDTF">2007-11-29T20:08:17Z</dcterms:modified>
  <cp:revision>5</cp:revision>
  <dc:subject/>
  <dc:title>Jap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